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98877"/>
        <c:axId val="65345903"/>
      </c:barChart>
      <c:catAx>
        <c:axId val="95898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45903"/>
        <c:crosses val="autoZero"/>
        <c:auto val="1"/>
        <c:lblAlgn val="ctr"/>
        <c:lblOffset val="100"/>
        <c:noMultiLvlLbl val="0"/>
      </c:catAx>
      <c:valAx>
        <c:axId val="653459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98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986E-4F66-49EB-AFC3-D049A7FE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8315-9B5A-43BD-9524-1006AF0F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C06-AE0A-4CB4-862C-11FDAA3F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058-1A1C-4B88-8B4C-ED9CDE68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586C-1E69-47EC-9086-511C4DC4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939-C330-44ED-9B9D-9959D802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2C7-C70B-4A0B-B3AA-C7788902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FCD5-B003-4E1D-90F6-CA6FBF1A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4050-1CC0-4AC6-B397-F74925DF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429-69DA-4470-B624-4DC90206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EF21-7A2B-41F8-A562-2638A968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4F2-4835-4EDA-A6FA-37E8F6FB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50604-A5E9-4A94-A496-7BE1AA58AD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