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69098"/>
        <c:axId val="7644702"/>
      </c:barChart>
      <c:catAx>
        <c:axId val="67169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702"/>
        <c:crosses val="autoZero"/>
        <c:auto val="1"/>
        <c:lblAlgn val="ctr"/>
        <c:lblOffset val="100"/>
        <c:noMultiLvlLbl val="0"/>
      </c:catAx>
      <c:valAx>
        <c:axId val="7644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69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02C-FF44-494C-A093-DC0A5CEC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0DD-59D1-428C-B7D1-27AB36F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579-9489-4022-9F59-A2C9E96E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1C1-05E6-456B-97C6-08E643C9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1CE-547D-4512-9875-C8D1514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144-B541-4CC4-ACC9-E1BC7399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8BB-2F3B-4F5C-84F1-2C7D45B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E29-6370-4031-9797-D69AE76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269-F21B-494E-9E6D-80E7ABEE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9AF-A673-4A58-9CC8-DD632C8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52B-DE0C-4BBB-979C-36AC4E4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EDE-EE39-48F1-BF42-17A30E8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57AF0-2EC3-45C2-8277-1CDD799838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